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drumroll.wav" ContentType="audio/x-wav"/>
  <Override PartName="/ppt/media/image3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CCF-F339-4B78-87B9-98DFBB7C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BE9-0E60-4792-8533-E8A66341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5CF-B585-424E-9FF9-698B8CDD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6EC4-151B-4A9D-8909-6F1D673B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FB61-5AAB-4108-BAED-52518017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E7F5-3B07-4967-8E67-6708D1DF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9291-CEE8-4A8C-BEA1-2A2F63B9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28FA-2BB7-46BD-B750-A2EA33C3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9927-2CD1-44A9-8D75-6B3EDC4F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53E5-4EED-40F2-9171-95E72AD1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1ADE-7BB4-4947-A137-75A28422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B43-B531-4B3C-874E-35D5E489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C491-23FD-4E74-A23A-DB6A9A5B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D313-5CD5-498C-9354-684D5147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66CD-7FDF-4A5C-BB67-899343CA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95BC-CE2A-4D06-AEC4-D029735B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36CC-46FB-46F3-8641-E6109FEF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595-8481-485C-AFB8-7B3647F9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47BF-FAE9-4D7C-8BF8-8B3A3A7D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E5B-F8BA-48BD-B082-33976B12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78E-8675-4779-AEAF-3E4A4F59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83B-B21E-4C41-9F82-45D479A9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CDC7-4A49-4886-97A0-6AD70D71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7B32-0D7F-47DE-8CCE-F23F9B52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94D3-59F2-4AAB-BC4D-7A282F79F50A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E2AD-F25F-4650-A4A1-6A10041EE383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3300"/>
                </a:solidFill>
                <a:latin typeface="Arial"/>
              </a:rPr>
              <a:t>Chmury, chmurki  i  chmureczki</a:t>
            </a:r>
            <a:r>
              <a:rPr b="0" lang="pl-PL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168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8320" y="1676160"/>
            <a:ext cx="4194000" cy="2135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1680" y="3963600"/>
            <a:ext cx="4194000" cy="2135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648320" y="3963600"/>
            <a:ext cx="4194000" cy="2135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24000" y="1628640"/>
            <a:ext cx="4176720" cy="216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643280" y="3933720"/>
            <a:ext cx="41767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324000" y="3933720"/>
            <a:ext cx="4176720" cy="215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4643280" y="1700280"/>
            <a:ext cx="4176720" cy="207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chmury średnie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01680" y="1676160"/>
            <a:ext cx="4194000" cy="4422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średnie warstwowe</a:t>
            </a:r>
            <a:r>
              <a:rPr b="0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 (</a:t>
            </a:r>
            <a:r>
              <a:rPr b="0" i="1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Altostratus</a:t>
            </a:r>
            <a:r>
              <a:rPr b="0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 -              jakby włóknista zasłona podobna do cirrostratus, ale nie daje zjawiska halo, zbudowana z drobin wody i lodu,           pułap 3-5 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24000" y="170028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2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Chmury niskie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1680" y="1676160"/>
            <a:ext cx="4194000" cy="44226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warstwowe deszczowe</a:t>
            </a:r>
            <a:r>
              <a:rPr b="0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 (</a:t>
            </a:r>
            <a:r>
              <a:rPr b="0" i="1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Nimbostratus</a:t>
            </a:r>
            <a:r>
              <a:rPr b="0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 -    niskie, całkowicie nieprzezroczyste, zbudowane z drobin wody i lodu, pułap podstawy 100 m do 1 km, dają ciągły opad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4000" y="170028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1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Chmury niskie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1680" y="1676160"/>
            <a:ext cx="4194000" cy="4422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kłębiasto-warstwowe</a:t>
            </a:r>
            <a:r>
              <a:rPr b="0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 (</a:t>
            </a:r>
            <a:r>
              <a:rPr b="0" i="1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Stratocumulus</a:t>
            </a:r>
            <a:r>
              <a:rPr b="0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 - warstwowe, z wyraźnymi cieniami, zbudowane z kropelek wody,                         pułap 500 - 1500 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50920" y="1700280"/>
            <a:ext cx="424980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1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Chmury niskie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kłębiaste deszczowe</a:t>
            </a:r>
            <a:r>
              <a:rPr b="0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 (</a:t>
            </a:r>
            <a:r>
              <a:rPr b="0" i="1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Cumulonimbus)</a:t>
            </a:r>
            <a:r>
              <a:rPr b="0" i="1" lang="pl-PL" sz="2800" spc="-1" strike="noStrike">
                <a:solidFill>
                  <a:srgbClr val="ff3300"/>
                </a:solidFill>
                <a:latin typeface="Arial"/>
              </a:rPr>
              <a:t> -           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chmury burzowe, zbudowane z drobin wody i lodu, pułap podstawy poniżej  1000 m, wypiętrzone na wysokość do        12 km, silne prądy pionowe, występują ulewne deszcze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1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3300"/>
                </a:solidFill>
                <a:latin typeface="Arial"/>
              </a:rPr>
              <a:t>Zapamiętaj 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Chmury o pułapie poniżej 2 km nazywa się </a:t>
            </a:r>
            <a:r>
              <a:rPr b="0" lang="pl-PL" sz="3200" spc="-1" strike="noStrike" u="sng">
                <a:solidFill>
                  <a:srgbClr val="ff3300"/>
                </a:solidFill>
                <a:uFillTx/>
                <a:latin typeface="Arial"/>
              </a:rPr>
              <a:t>niskimi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, od 2-7 km - </a:t>
            </a:r>
            <a:r>
              <a:rPr b="0" lang="pl-PL" sz="3200" spc="-1" strike="noStrike" u="sng">
                <a:solidFill>
                  <a:srgbClr val="ff3300"/>
                </a:solidFill>
                <a:uFillTx/>
                <a:latin typeface="Arial"/>
              </a:rPr>
              <a:t>średnimi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, od 7 do 15 km - </a:t>
            </a:r>
            <a:r>
              <a:rPr b="0" lang="pl-PL" sz="3200" spc="-1" strike="noStrike" u="sng">
                <a:solidFill>
                  <a:srgbClr val="ff3300"/>
                </a:solidFill>
                <a:uFillTx/>
                <a:latin typeface="Arial"/>
              </a:rPr>
              <a:t>wysokimi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3300"/>
                </a:solidFill>
                <a:latin typeface="Arial"/>
              </a:rPr>
              <a:t>Test</a:t>
            </a: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3300"/>
                </a:solidFill>
                <a:latin typeface="Arial"/>
              </a:rPr>
              <a:t>Co to za chmura 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01680" y="1700280"/>
            <a:ext cx="4194000" cy="4392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To oczywiście chmura kłębiasta (Cumulus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"/>
              </a:rPr>
              <a:t>Na jakiej wysokości występują te  chmury 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01680" y="1700280"/>
            <a:ext cx="4194000" cy="4392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Chmury warstwowe deszczowe (Nimbostratus), a więc wysokość od 100m do 1 k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3300"/>
                </a:solidFill>
                <a:latin typeface="Arial"/>
              </a:rPr>
              <a:t>Jaką pogodę  wróżą te chmury 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01680" y="1700280"/>
            <a:ext cx="419400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To chmury kłębiaste deszczowe (Cumulonimbus),   będzie  mocno padać 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3300"/>
                </a:solidFill>
                <a:latin typeface="Arial"/>
              </a:rPr>
              <a:t>Ciekawostka 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92000" y="2492280"/>
            <a:ext cx="47084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Chmury występują         również w atmosferze    innych planet !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3300"/>
                </a:solidFill>
                <a:latin typeface="Arial"/>
              </a:rPr>
              <a:t>Rodzaje  chmur 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3300"/>
                </a:solidFill>
                <a:uFillTx/>
                <a:latin typeface="Arial"/>
              </a:rPr>
              <a:t>Podstawow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pierzaste (</a:t>
            </a:r>
            <a:r>
              <a:rPr b="0" i="1" lang="pl-PL" sz="3200" spc="-1" strike="noStrike">
                <a:solidFill>
                  <a:srgbClr val="ff3300"/>
                </a:solidFill>
                <a:latin typeface="Arial"/>
              </a:rPr>
              <a:t>Cirrus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kłębiaste (</a:t>
            </a:r>
            <a:r>
              <a:rPr b="0" i="1" lang="pl-PL" sz="3200" spc="-1" strike="noStrike">
                <a:solidFill>
                  <a:srgbClr val="ff3300"/>
                </a:solidFill>
                <a:latin typeface="Arial"/>
              </a:rPr>
              <a:t>Cumulus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niskie warstwowe (</a:t>
            </a:r>
            <a:r>
              <a:rPr b="0" i="1" lang="pl-PL" sz="3200" spc="-1" strike="noStrike">
                <a:solidFill>
                  <a:srgbClr val="ff3300"/>
                </a:solidFill>
                <a:latin typeface="Arial"/>
              </a:rPr>
              <a:t>Strat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3300"/>
                </a:solidFill>
                <a:latin typeface="Arial"/>
              </a:rPr>
              <a:t>Chmury kryształków lodu nad                   Chmury nad Jowiszem                                                 wulkanami na Marsie</a:t>
            </a:r>
            <a:r>
              <a:rPr b="0" lang="pl-PL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0168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50920" y="1700280"/>
            <a:ext cx="3889440" cy="4392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5003640" y="1700280"/>
            <a:ext cx="381636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3300"/>
                </a:solidFill>
                <a:latin typeface="Arial"/>
              </a:rPr>
              <a:t>Dziękuję za uwagę !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Autor: Krystian Iwański                   nauczyciel geografii                                    PG w Chróścinie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132000" y="3716280"/>
            <a:ext cx="317196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3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3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3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3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3300"/>
                </a:solidFill>
                <a:uFillTx/>
                <a:latin typeface="Arial"/>
              </a:rPr>
              <a:t>pochodne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kłębiasto-pierzaste (</a:t>
            </a:r>
            <a:r>
              <a:rPr b="0" i="1" lang="pl-PL" sz="3200" spc="-1" strike="noStrike">
                <a:solidFill>
                  <a:srgbClr val="ff3300"/>
                </a:solidFill>
                <a:latin typeface="Arial"/>
              </a:rPr>
              <a:t>Cirrocumulus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warstwowo-pierzaste (</a:t>
            </a:r>
            <a:r>
              <a:rPr b="0" i="1" lang="pl-PL" sz="3200" spc="-1" strike="noStrike">
                <a:solidFill>
                  <a:srgbClr val="ff3300"/>
                </a:solidFill>
                <a:latin typeface="Arial"/>
              </a:rPr>
              <a:t>Cirrostratus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średnie kłębiaste (</a:t>
            </a:r>
            <a:r>
              <a:rPr b="0" i="1" lang="pl-PL" sz="3200" spc="-1" strike="noStrike">
                <a:solidFill>
                  <a:srgbClr val="ff3300"/>
                </a:solidFill>
                <a:latin typeface="Arial"/>
              </a:rPr>
              <a:t>Altocumulus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średnie warstwowe (</a:t>
            </a:r>
            <a:r>
              <a:rPr b="0" i="1" lang="pl-PL" sz="3200" spc="-1" strike="noStrike">
                <a:solidFill>
                  <a:srgbClr val="ff3300"/>
                </a:solidFill>
                <a:latin typeface="Arial"/>
              </a:rPr>
              <a:t>Altostratus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warstwowe deszczowe (</a:t>
            </a:r>
            <a:r>
              <a:rPr b="0" i="1" lang="pl-PL" sz="3200" spc="-1" strike="noStrike">
                <a:solidFill>
                  <a:srgbClr val="ff3300"/>
                </a:solidFill>
                <a:latin typeface="Arial"/>
              </a:rPr>
              <a:t>Nimbostratus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kłębiasto-warstwowe (</a:t>
            </a:r>
            <a:r>
              <a:rPr b="0" i="1" lang="pl-PL" sz="3200" spc="-1" strike="noStrike">
                <a:solidFill>
                  <a:srgbClr val="ff3300"/>
                </a:solidFill>
                <a:latin typeface="Arial"/>
              </a:rPr>
              <a:t>Stratocumulus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kłębiaste deszczowe (</a:t>
            </a:r>
            <a:r>
              <a:rPr b="0" i="1" lang="pl-PL" sz="3200" spc="-1" strike="noStrike">
                <a:solidFill>
                  <a:srgbClr val="ff3300"/>
                </a:solidFill>
                <a:latin typeface="Arial"/>
              </a:rPr>
              <a:t>Cumulonimbus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"/>
              </a:rPr>
              <a:t>Charakterystyka : </a:t>
            </a:r>
            <a:br>
              <a:rPr sz="4000"/>
            </a:br>
            <a:r>
              <a:rPr b="0" lang="pl-PL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Chmury wysokie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1680" y="1676160"/>
            <a:ext cx="4194000" cy="4422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pierzaste</a:t>
            </a:r>
            <a:r>
              <a:rPr b="0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 (</a:t>
            </a:r>
            <a:r>
              <a:rPr b="0" i="1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Cirrus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)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włókna zbudowane z kryształków lodu, znajdują się na wysokości 7-10 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24000" y="170028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9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25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Chmury niskie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4194000" cy="4422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kłębiaste</a:t>
            </a:r>
            <a:r>
              <a:rPr b="0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 (</a:t>
            </a:r>
            <a:r>
              <a:rPr b="0" i="1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Cumulus</a:t>
            </a:r>
            <a:r>
              <a:rPr b="0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wypiętrzone kłęby o płaskiej podstawie, zbudowane z kropelek wody, pułap podstawy 500-2000 m, na ogół bez opadu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41749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1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Chmury niskie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1680" y="1676160"/>
            <a:ext cx="4194000" cy="4422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niskie warstwowe</a:t>
            </a:r>
            <a:r>
              <a:rPr b="0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 (</a:t>
            </a:r>
            <a:r>
              <a:rPr b="0" i="1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Stratus</a:t>
            </a:r>
            <a:r>
              <a:rPr b="0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 -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równomierna warstwa podobna do mgły, kropelki wody, pułap podstawy 100 -     1000 m, opad w postaci mżawk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4000" y="170028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1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8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Chmury średnie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01680" y="1676160"/>
            <a:ext cx="4194000" cy="4422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kłębiasto-pierzaste</a:t>
            </a:r>
            <a:r>
              <a:rPr b="0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 (</a:t>
            </a:r>
            <a:r>
              <a:rPr b="0" i="1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Cirrocumulus</a:t>
            </a:r>
            <a:r>
              <a:rPr b="0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warstwa skłębionych elementów, zbudowana z kryształków lodu, pułap: 6-8 k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4000" y="170028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2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35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Chmury wysokie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676160"/>
            <a:ext cx="4194000" cy="44226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pl-PL" sz="2800" spc="-1" strike="noStrike">
                <a:solidFill>
                  <a:srgbClr val="ff3300"/>
                </a:solidFill>
                <a:latin typeface="Arial"/>
              </a:rPr>
              <a:t>warstwowo-pierzaste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 (</a:t>
            </a:r>
            <a:r>
              <a:rPr b="0" i="1" lang="pl-PL" sz="2800" spc="-1" strike="noStrike">
                <a:solidFill>
                  <a:srgbClr val="ff3300"/>
                </a:solidFill>
                <a:latin typeface="Arial"/>
              </a:rPr>
              <a:t>Cirrostratus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)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jednostajne, lekkie zamglenie dające np. halo Słońca, kryształki lodu na pułapie          8-10 k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50920" y="1700280"/>
            <a:ext cx="424980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2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35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Chmury średnie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1680" y="1676160"/>
            <a:ext cx="4194000" cy="4422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średnie kłębiaste</a:t>
            </a:r>
            <a:r>
              <a:rPr b="0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 (</a:t>
            </a:r>
            <a:r>
              <a:rPr b="0" i="1" lang="pl-PL" sz="2800" spc="-1" strike="noStrike" u="sng">
                <a:solidFill>
                  <a:srgbClr val="ff3300"/>
                </a:solidFill>
                <a:uFillTx/>
                <a:latin typeface="Arial"/>
              </a:rPr>
              <a:t>Altocumulus)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 -    pasma zbudowane z kropelek wody i kryształków lodu, pułap 2-6 k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2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06:07:50Z</dcterms:created>
  <dc:creator>a</dc:creator>
  <dc:description/>
  <dc:language>en-US</dc:language>
  <cp:lastModifiedBy>a</cp:lastModifiedBy>
  <dcterms:modified xsi:type="dcterms:W3CDTF">2002-09-27T11:43:34Z</dcterms:modified>
  <cp:revision>4</cp:revision>
  <dc:subject/>
  <dc:title>Chmury, chmurki  i  chmureczki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